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EEE1-7B8C-4863-AFE6-C8353B0FC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5F79-AB08-4E0E-B989-7C296FBBDB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E35A-EDD7-4556-9289-4CFC77295A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A3EB-93EC-4D5F-8D0B-BB91826F7D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8F8C-F515-484D-87A6-285BB0F92D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D976-FA7A-4365-A418-AE7C06ED65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D73B-2B40-4EE0-9CD4-FB398A31A7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98B8-CBD4-4A2D-A4CB-C735509C5B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A846-8EC7-48AE-986C-2528CCF8D8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4BA2-FAB5-420B-ABF0-EB3B81ECEF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7F5E-7B0B-4F42-B8FD-35EAF9AD84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ame as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732-9AD4-4715-B69F-43CB1EC8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2E5-25E5-42AB-9B00-18150A77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C08-4AD0-4EF7-8C00-E2CEBD0B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9AB-4836-4E56-89FC-5966376F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380-09DB-4E4F-B801-E683762A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093-1598-45A2-8AD5-974550DE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B45-DF5C-4E0E-A9DD-93B1FE70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136-8FBC-4C0C-991A-23A0EE68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9C5-6F79-41EE-91AB-22943D64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AED-539B-4EF6-862B-8A933F2F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B96-531D-4B23-9FD4-46C4B56C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19E-0D23-4608-8112-BF42DABD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44AE-5673-4045-A03F-1F44B46D7FFD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01D4-14A0-40F8-B521-942B3B68B1F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05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The Is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the island 11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the island 12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the island 13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the island 14"/>
          <p:cNvPicPr/>
          <p:nvPr/>
        </p:nvPicPr>
        <p:blipFill>
          <a:blip r:embed="rId1"/>
          <a:stretch/>
        </p:blipFill>
        <p:spPr>
          <a:xfrm>
            <a:off x="380880" y="144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the island 15jpg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the island 16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the island 17jpg"/>
          <p:cNvPicPr/>
          <p:nvPr/>
        </p:nvPicPr>
        <p:blipFill>
          <a:blip r:embed="rId1"/>
          <a:stretch/>
        </p:blipFill>
        <p:spPr>
          <a:xfrm>
            <a:off x="380880" y="144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the island 18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the island 1"/>
          <p:cNvPicPr/>
          <p:nvPr/>
        </p:nvPicPr>
        <p:blipFill>
          <a:blip r:embed="rId1"/>
          <a:stretch/>
        </p:blipFill>
        <p:spPr>
          <a:xfrm>
            <a:off x="380880" y="144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the island 2"/>
          <p:cNvPicPr/>
          <p:nvPr/>
        </p:nvPicPr>
        <p:blipFill>
          <a:blip r:embed="rId1"/>
          <a:stretch/>
        </p:blipFill>
        <p:spPr>
          <a:xfrm>
            <a:off x="380880" y="3240"/>
            <a:ext cx="83822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the island 3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the island 4"/>
          <p:cNvPicPr/>
          <p:nvPr/>
        </p:nvPicPr>
        <p:blipFill>
          <a:blip r:embed="rId1"/>
          <a:stretch/>
        </p:blipFill>
        <p:spPr>
          <a:xfrm>
            <a:off x="380880" y="4680"/>
            <a:ext cx="838224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the island 6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the island 8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the island 9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the island 10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4:00:38Z</dcterms:created>
  <dc:creator>Bryn Evans</dc:creator>
  <dc:description/>
  <dc:language>en-US</dc:language>
  <cp:lastModifiedBy>DP McQuillan</cp:lastModifiedBy>
  <dcterms:modified xsi:type="dcterms:W3CDTF">2011-04-17T02:57:15Z</dcterms:modified>
  <cp:revision>62</cp:revision>
  <dc:subject/>
  <dc:title>PowerPoint Presentation</dc:title>
</cp:coreProperties>
</file>